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87F5-5FA4-4772-89C6-029D380A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FC60A-3720-4D72-832F-6F6431AE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321F-73EF-43B5-A51C-293533D3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83FB-94C3-42FB-A1DA-4E889C13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A09E-5712-40BB-B755-810D8EF0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14CB-9414-4DAA-BDAB-0A908ADB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673E-E90B-4894-8B70-7F6B73D8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7291-0418-4C14-8BC2-1B633810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B706-ACAF-47E1-9889-F00BC9D3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A835-BA49-4EDE-8D3F-308CEA74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95B9-03BA-4538-AE81-E99753C1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B72EA-F9B0-429B-BDF5-E8277BD2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85FB-B02A-4CD0-B566-D8A5AE8E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5CC2-D375-44FA-9C6D-933FD07C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86A7-A842-406A-92BF-90908D24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E10C-947F-449E-8016-111C342A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55AC-E38D-4380-B66F-C5F478DC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45742-4913-48A2-B60E-5EF3BDCA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E8D7-0540-493C-BA2C-DE876E8E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ECDB9-001F-4BA1-AFE8-B979669A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7792-A86C-4EDC-AE42-54B4DCCB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25B1C-ED34-418F-8314-6EDDD997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68E4D-42BE-43B2-8542-CFDAB982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AB9BF-7F24-4279-82EB-AB2830EA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B800-7335-495A-B91E-EC8235079B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5F59-ED3F-4ACB-9B6D-A15D45E2D7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1557000"/>
            <a:ext cx="5760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9ccff"/>
                </a:solidFill>
                <a:latin typeface="Arial"/>
              </a:rPr>
              <a:t>Competen</a:t>
            </a:r>
            <a:r>
              <a:rPr b="0" lang="ro-RO" sz="4500" spc="-1" strike="noStrike">
                <a:solidFill>
                  <a:srgbClr val="99ccff"/>
                </a:solidFill>
                <a:latin typeface="Arial"/>
              </a:rPr>
              <a:t>țe digital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3300"/>
                </a:solidFill>
                <a:latin typeface="comic"/>
              </a:rPr>
              <a:t>Bacalaureat 2010</a:t>
            </a:r>
            <a:endParaRPr b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900" spc="-1" strike="noStrike">
                <a:solidFill>
                  <a:srgbClr val="ffffff"/>
                </a:solidFill>
                <a:latin typeface="Arial"/>
              </a:rPr>
              <a:t>Domenii de competență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Utilizarea computerului și organizarea fișiere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Editoare de tex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Informație și comuni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oncepte de bază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Editoare de calcul tabe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aze de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Prezentă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iniatur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42920" y="2719440"/>
            <a:ext cx="2592360" cy="2379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Succes!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32360" y="2940120"/>
            <a:ext cx="3887640" cy="2388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00000" y="2708280"/>
            <a:ext cx="3329280" cy="331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0:38:49Z</dcterms:created>
  <dc:creator>AS</dc:creator>
  <dc:description/>
  <dc:language>en-US</dc:language>
  <cp:lastModifiedBy>AS</cp:lastModifiedBy>
  <dcterms:modified xsi:type="dcterms:W3CDTF">2010-01-08T18:03:26Z</dcterms:modified>
  <cp:revision>12</cp:revision>
  <dc:subject/>
  <dc:title>Diapozitivul 1</dc:title>
</cp:coreProperties>
</file>